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D59-4A41-4993-ADA2-D11328CF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1E1-2844-4DAE-A0FA-D7605B80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4CD5-789A-4D22-9075-B2A78C90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8CB-7E4E-4FE5-953C-3B0AF2CD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B916-795B-48F6-A0E0-D45D2756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262-BC29-4439-B883-10AC1887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D84-5114-43EA-AD24-68E1D384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A7A-C3FF-48B9-83C8-F6FF95CB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919-815A-4836-9428-2A7DBA64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1AD-E59D-444D-9EF0-9395C242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477-F3C5-4DE7-9923-CE1BDFB3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B21-DC69-483C-9FB9-695C69FB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EE8F-1E12-4432-890E-B9A3015A0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disastervideo.net/earthquake-car.php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66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Earthqu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y: Tanner Thoma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Yatzeni Cr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99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Strike-Slip Fa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trike-Slip Fault- the rocks on either side of the fault slip past each other side-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trike-Slip fault is valley looking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risten ITC"/>
              </a:rPr>
              <a:t>Static.howstuffworks.com/gif/earthquake-1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419076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66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Syncline &amp; Pla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yncline- fold of rock that bends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Plateau- a large area of flat land elevated high above sea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risten ITC"/>
              </a:rPr>
              <a:t>www.aeic.alaska.edu/quakes.middleton6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4132440"/>
            <a:ext cx="4010040" cy="2725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0" y="3652920"/>
            <a:ext cx="45720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660066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Top 10 Earthqu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Anch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Mexico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z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Chimb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Northwestern Iran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Kristen ITC"/>
              </a:rPr>
              <a:t>www.bennett.karoo.net/.../nathaz/eathqu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Gan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Messina                                  After the vide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San Francisco                   That is why you hav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watch the news!!!!!!!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267080" y="12193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803840" y="411480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watch a vide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St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tress- is force that acts on rock to change its shape or volu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tress is the changing of rocks shape after an earthqu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risten ITC"/>
              </a:rPr>
              <a:t>Topex.ucsd.edu/…/StressSSAFcaptur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52480" y="3733920"/>
            <a:ext cx="54104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ension- is when they pull apart in different dir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ension is the crack of and earthqu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risten ITC"/>
              </a:rPr>
              <a:t>www.bbc.co.uk/.../images/g_lwpt_e_1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67080" y="3276720"/>
            <a:ext cx="4572000" cy="314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b2b2b2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Com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ompression- pushes rocks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ompression is how mountains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risten ITC"/>
              </a:rPr>
              <a:t>www.smate.wwwu.edu/.../eq-genral-1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5029200" cy="335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She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hearing- mass of rock in opposite dir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hearing is when the crust pulls apart in different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risten ITC"/>
              </a:rPr>
              <a:t>Pubs.usgs.gov/of/1998/ofr-98-0767/shear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4208400"/>
            <a:ext cx="48006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Normal Fa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Normal Fault- is crust that pulls a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Normal Fault is land is not together after an earthqu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risten ITC"/>
              </a:rPr>
              <a:t>Blue.utb.edu/../Lectures.zfaults_InageS@K&gt;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484800">
            <a:off x="5866920" y="2895120"/>
            <a:ext cx="2757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66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Foot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otwall- rock that lies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otwall is a lower part of a plat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risten ITC"/>
              </a:rPr>
              <a:t>www.geus.dk/.../bull/nr8/nr8_p0600-089009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3498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Hanging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Hanging Wall- a block of rock that lies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Hanging Wall is a hill that is very ste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risten ITC"/>
              </a:rPr>
              <a:t>www.geosic.unc.edu/.../ShoshoneFault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3581280"/>
            <a:ext cx="46483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bbe0e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Reverse Fault &amp; Anti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Reverse Fault- is the same structure as a normal 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nticline-  a fold in rock that bends upward into an 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risten ITC"/>
              </a:rPr>
              <a:t>www.onep.go.th/tsunami/Tsunami_Eng/pic/ex3/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2666880" cy="2579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05520" y="3276720"/>
            <a:ext cx="380988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9:03:52Z</dcterms:created>
  <dc:creator>tannerthomas</dc:creator>
  <dc:description/>
  <dc:language>en-US</dc:language>
  <cp:lastModifiedBy>tannerthomas</cp:lastModifiedBy>
  <dcterms:modified xsi:type="dcterms:W3CDTF">2008-02-07T19:26:24Z</dcterms:modified>
  <cp:revision>18</cp:revision>
  <dc:subject/>
  <dc:title>Earthquakes</dc:title>
</cp:coreProperties>
</file>